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08F-2954-441F-9BA1-D6C345CF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DD8-A3C5-4CE6-8553-EE5064A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D77-500A-49F0-AFA2-9A265EE7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ED6-5998-490E-9164-47358E0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D25-B854-4EBE-AAC9-11B9A67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F7-2A62-4EB5-924F-1F25887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270-5826-4BD8-B9D8-FD0024B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BB4-A706-42C8-BA7A-68BEAF9A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A46-E003-4FBF-B8D8-09E9E6EA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D88-6D46-428A-A598-B91C3C2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D3E-F3BF-42E7-827D-F14240F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E74-6759-45C1-98DE-86E3F6D8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E00-CE85-4C87-99B0-92755A545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urzim.ru/uploads/posts/2010-12/1291230522_image089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murzim.ru/uploads/posts/2010-12/1291230469_image087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hwa.dot.gov/environment/wildlifeprotection/images/lamprey-5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elp-rus-student.ru/pictures/14/063_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448E-21E8-4AC5-874E-0D61FD023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арактеристика подтип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ЗВОНОЧНЫЕ ИЛИ ЧЕРЕП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№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F68B-2341-478D-8B06-D19CB52E5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жные покров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позвоночных двухслой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ый слой — многорядный эпидермис, развивается из эктоде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идермисе  имеются различного назначения железистые клетки, у наземных - многоклеточные железы, погружаются в кори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идермисе возникают защитные образования: эмалевые части плакоидных чешуй, роговые чешуи пресмыкающихся, когти и перья птиц, когти и волосы млекопитающих. Скопление пигмента - окраска кожи (хроматофорные клет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E8D4-AF73-4963-BC34-D4982069E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жные 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ум - из мезодермы. Волокнистая СДТ, пронизана кровеносными сосудами и нервными оконч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ое - покровные скелетные образования: костные чешуи и покровные 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ко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ая защ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веществ (в водном и солевом обмене, дыхании и др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регуля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рганизма от проникновения болезнетворных агент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633-DC33-4522-9A3B-68CF6B444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вой ске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ности и их поя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н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ая кон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3492360" y="1773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419640" y="213372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3132000" y="4076640"/>
            <a:ext cx="129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203640" y="450864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BAD-FB8B-4836-8721-9AC26B358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Картинка 5 из 719"/>
          <p:cNvPicPr/>
          <p:nvPr/>
        </p:nvPicPr>
        <p:blipFill>
          <a:blip r:embed="rId1"/>
          <a:stretch/>
        </p:blipFill>
        <p:spPr>
          <a:xfrm>
            <a:off x="1476360" y="333360"/>
            <a:ext cx="561672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E86-9ED3-4D3D-B551-020DC97E6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есчелюстных и хрящевых рыб построен разными типами хряща. Иногда хрящ включает кальциевые соли и принимает внешне вид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остальных позвоночных внутренний скелет в основном костный с некоторым участием хрящ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елетные элементы возникают в волокнистой соединительной ткани (вероятно, представляющей преобразованную слизистую опорную ткань бесчелюстных) в виде хрящевых образований, которые затем могут замещаться костью (замещающие, хрящевые или хондральные кости). Другие кости образуются в соединительнотканном слое кожи сразу, не проходя хрящевой стадии, это покровные или кожные кости. Нередко они погружаются под кожу и срастаются с хрящевыми костя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4B4-C585-4126-A957-D0A16181D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евой скеле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он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да замещается позвоночным столбом, состоящим из хрящевых или костных позвон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тся в соединительнотканной оболочке хор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бесчелюстных хорда полностью сохраняется, но в ее соединительнотканной оболочке развиваются палочковидные хрящи, которые рассматриваются как зачатки верхних дуг позвон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ыб хорда, деформированная телами хрящевых или костных позвонков, сохраняется. В остальных классах позвоночных животных хорда развивается лишь у зародышей, а затем вытесняется позвон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щение хорды сегментарным позвоночным столбом увеличивает прочность осевого скелета при сохранении его гибкости (подвиж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ный рельеф позвонков обеспечивает возможности прикрепления мощной мускулатуры. Верхние дуги позвонков образуют канал, в котором лежит спин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F3C-BD06-4F87-8EED-7AC48D29B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79438508"/>
          <p:cNvPicPr/>
          <p:nvPr/>
        </p:nvPicPr>
        <p:blipFill>
          <a:blip r:embed="rId1"/>
          <a:stretch/>
        </p:blipFill>
        <p:spPr>
          <a:xfrm>
            <a:off x="755640" y="76500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404-0652-458D-B042-D7DDA48F1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вон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фиц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льные - имеют вогнутую поверхность спереди и выпуклую сзади. большинство бесхвостых амфибий и репти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тоцельные -  спереди выпуклые, сзади вогну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тероцельные - седловидные сочленовные поверх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44D-6642-49E8-A91B-F58B981B7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елет чере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головного мозга и органов чувств - защитные скелетны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к активному питанию - органы активного захвата и переработки пи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или осевой чер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церальный скелет, окружающий передний конец пищеварительной трубки; у водных - опора жаб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3995640" y="2492280"/>
            <a:ext cx="936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 flipV="1">
            <a:off x="3780000" y="4436640"/>
            <a:ext cx="115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92C-22B6-4FE3-8FC0-53A64C0FF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церальный и мозговой череп у всех позвоночных, кроме круглоротых, объединяется в единый комплекс — череп (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i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подразделяемый на мозговой и висцеральный отде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8B2-A86F-464A-933C-EEC00FB26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 организованные хордов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ются активным питанием: пища разыскивается, преследуется, часто измельчается, - облегчает перевари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к активному питанию - усиление подвижности и перестройка двигательной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да замещается позвоно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ся череп (защита головного моз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юсти (орган захвата и измельчения пищ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т парные конечности и их поя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 круглорот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круглоро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291230522_image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55736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291230469_image0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0"/>
            <a:ext cx="3333960" cy="17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291230547_image091"/>
          <p:cNvPicPr/>
          <p:nvPr/>
        </p:nvPicPr>
        <p:blipFill>
          <a:blip r:embed="rId5"/>
          <a:stretch/>
        </p:blipFill>
        <p:spPr>
          <a:xfrm>
            <a:off x="4356000" y="2048040"/>
            <a:ext cx="33814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lamprey-5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5076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063_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C909-6830-4C7C-BB6F-D163F8965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зговой чер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адывается под головным мозгом в виде двух-трех пар хря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ящи сливаются друг с другом, и обрастают головной мозг с боков. К ним прирастают обонятельные капсулы, по бокам — слуховые капс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ой череп, без крыши, - бесчелюс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остальных позвоночных хрящ крышу черепа, в которой - небольшие отверстия затянутые СДТ перепон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изших костных рыб (хрящевых ганоидов) мозговой череп остается хрящевым,  поверх него - панцирь из покровных (кожных) 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остальных групп продолжается окостенение черепа – у четвероногих костный, иногда с элементами хрящ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8D5-F1D2-47F4-8235-01A663E10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два основных типа мозгового (осевого) череп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латибазальный — с широким основанием; между его глазницами расположена мозговая полость черепа  — свойствен многим группам рыб, амфибий, части рептил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тропибазальный — с узким основанием; стенки глазниц сближены и разделены лишь тонкой межглазничной перегородкой; мозговая полость расположена позади глазниц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EFD-FE85-4767-901F-5FE776AA5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церальный отдел черепа  развивается в виде висцеральных (жаберных) дуг, между жаберными щ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руглоротых преобразуются в сложную хрящевую жаберную коробку (окружает область жаберных мешков), в околосердечный хрящ и в хрящи, поддерживающие мускулатуру языка и ротовой воро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66A-30CD-43F1-96D5-70EF8229F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2,3 жаберные д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одных челюстнорот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именты 1 и 2 жаберных дуг образуют губные хрящи (развиты у акуловых рыб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жаберная дуга, - челюстная, расчленяется на два отдела, образуя собственно челю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ий элемент - небно-квадратный хрящ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ний — меккелевым хрящ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ют функцию челюстей только у низших ры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ысших рыб окостен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функция захвата добычи переходит к вторичным челюстям, т. е. к  покровным кост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ечелюстной  и предчелюстной — в верхней челю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ой — в нижней челю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750F-4D31-49C9-BFB4-881989F90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жаберная д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жаберная дуга, подъязычная,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омандибулярного хряща, или подвеск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omandibular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оида, или подъязычного хрящ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оды правой и левой сторон соединяются друг с другом при помощи небольшого непарного элемента — коп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ысших рыб подъязычная дуга окостенев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4" descr="154700_html_254729c7.png"/>
          <p:cNvPicPr/>
          <p:nvPr/>
        </p:nvPicPr>
        <p:blipFill>
          <a:blip r:embed="rId1"/>
          <a:stretch/>
        </p:blipFill>
        <p:spPr>
          <a:xfrm>
            <a:off x="826920" y="1197000"/>
            <a:ext cx="734544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CEFA-79A9-4A24-AC40-CD059AA05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ящевая рыба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новодное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мыкающееся;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млекопитающее:</a:t>
            </a:r>
            <a:br>
              <a:rPr sz="3200"/>
            </a:br>
            <a:br>
              <a:rPr sz="32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нёбно-квадратный хрящ, 2—меккелев хрящ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омандибулярный хрящ, 4—гиоид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бик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адные кости вторичных челюстей, 7—наковаленка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8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ечко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9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оче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01C-2488-4C32-9055-6348B700B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F6F-C53D-4F46-9CFB-2DEE67D54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метаболизма у повышается за счет совершенствования питания, пищеварения, дыхания, кровообращения и выд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жняется строение и функции центральной нервной системы, органов чувств и гуморальной (гормональной) рег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жняется поведение и популяционная (внутривидовая) организа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тенденция к падению индивидуальной плодовитости в ряду позвоноч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7F5-B280-4D98-BF66-736734864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б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дуги - опора жабр (жаберные дуг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четырех подвижно сочлененных друг с другом парных элементов; правая и левая половина каждой дуги соединяется друг с другом на брюшной стороне при помощи непарного элем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имитивных рыб число дуг - 7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хрящевых— 5 пар жаберных д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стистых рыб часто их 4 пары (5 -рудиментарна) и они окостенев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счет покровных костей у костных рыб формируется скелет жаберной крышки, тоже относящийся к висцеральному чере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CD21-F7DE-4B1C-96B9-F399EEB28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ы прикрепления челюстного ап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тостилия — челюстная и подъязычная дуги независимо друг от друга связками подвешивались к мозговому черепу. Этот гипотетический исходный тип черепа - примитивные челюстнорот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Гиостилия — верхний конец гиомандибулярного отдела подъязычной дуги прикрепляется к слуховому отделу мозгового черепа и служит подвеском для челюстной дуги (многие группы рыб, в том числе большинство хрящевых и все костистые ры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0D30-DE77-45E6-BC41-F8A81EF75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мфистилия — верхний элемент челюстной дуги соединяется с мозговым черепом при помощи одного-двух специальных отростков и, кроме этого, как и при гиостилии, задние концы обоих челюстных элементов прочно связаны с нижним концом гиомандибулярного элемента (некоторые примитивные и современные акулы, костные ганоид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Аутостилия — верхний элемент челюстной дуги соединяется или срастается с мозговым черепом, гиомандибулярный элемент подъязычной дуги в прикреплении челюстей не участвует, и подъязычная дуга в большей или меньшей степени подвергается редукции (цельноголовые и двоякодышащие рыбы, земноводные и все другие наземные позвоночны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large_110_05_ichthyo_prikreplenie_chelyustey.jpg"/>
          <p:cNvPicPr/>
          <p:nvPr/>
        </p:nvPicPr>
        <p:blipFill>
          <a:blip r:embed="rId1"/>
          <a:stretch/>
        </p:blipFill>
        <p:spPr>
          <a:xfrm>
            <a:off x="1258920" y="1125360"/>
            <a:ext cx="7273800" cy="496764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AEE-AB81-4D8A-AE26-456BF29CC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A56-50E9-47EC-BED8-C34D9CD0D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твероног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ереходом к воздушному дыханию висцеральный скелет видоизменяется. В ряду земноводные — млекопитающие происходит усиление вторичных челюстей, а развитие аутостилии приводит к редукции подъязычной дуги: нижний ее элемент вместе с редуцирующими жаберными дугами участвует в образовании подъязычного аппарата и скелета гортани, а верхний элемент — гиомандибулярный, или подвесок, — превращается в косточку среднего уха — стремечко. Скелет жаберной крышки полностью редуцир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49C-B996-487C-B3B3-8C8680C1B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елет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атки парных и непарных конечностей в виде примитивных стабилизаторов — плавниковых складок — наметились у бесчереп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одных позвоночных разв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ные (грудные и брюш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арные (хвостовой, спинной, анальный) плавники с их внутренним и наружным скел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земных позвоночных парные плавники превратились в членистые коне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парных конечностей крепится с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его или гру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его или тазового поясов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0FE-4A50-4FCD-84DA-9E1727C91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Картинка 4 из 719"/>
          <p:cNvPicPr/>
          <p:nvPr/>
        </p:nvPicPr>
        <p:blipFill>
          <a:blip r:embed="rId1"/>
          <a:stretch/>
        </p:blipFill>
        <p:spPr>
          <a:xfrm>
            <a:off x="1547640" y="404640"/>
            <a:ext cx="40323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063-1E75-4013-A6A9-E145933E0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ы передней коне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чо (1 к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лечье (2 к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о костей запя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пять костей пясти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 фаланг пальц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F74-FA58-4A3C-A3D4-2F2C7F2B6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ы задней коне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дро (1 к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ень (2 к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люсн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юсневые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 фаланг пальц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2DF0-B138-4EF6-8781-39F168DEB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Картинка 20 из 82"/>
          <p:cNvPicPr/>
          <p:nvPr/>
        </p:nvPicPr>
        <p:blipFill>
          <a:blip r:embed="rId1"/>
          <a:stretch/>
        </p:blipFill>
        <p:spPr>
          <a:xfrm>
            <a:off x="1187280" y="1125360"/>
            <a:ext cx="70390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519-856D-4EDE-B2DF-CAA51463F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ип позвон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счелюс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nath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люстноро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athostoma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 flipV="1">
            <a:off x="3348000" y="3068280"/>
            <a:ext cx="144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419640" y="407664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940A-D03D-46C3-BE9B-8ECF79C7B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а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ний, или плечевой служит для причленения грудных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ников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ередних конеч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большинства рыб первичный пояс остаётся хрящевым (акуловые, двоякодышащие, хрящевые ганоиды), состоит из спинного (лопаточного) и брюшного (коракоидного) отде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ичный пояс конечностей - кости кожного происхождения, состоит 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ых ключ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ых больших клейтру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2 дополнит. косточек, соединяющих с череп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стистых рыб клейтрумы и ключицы слив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аземных позвоно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ичный пояс - утратил связь с черепом, развит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ичный почти редуцирован, представлен лишь ключицами и непарной межключиц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F63-41CA-4E56-8A49-45BE962EE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ний пояс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ичный пояс состоит обычно из лопатки и коракоида, образующих в месте соединения сочленовную ямку для головки пле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аземных позвоночных обе половины плечевого пояса соединены на брюшной сторон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дино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ющей у амниот связь пояса через рёбра с позвоночн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высших млекопитающих, начиная с сумчатых, от первичного пояса сохранилась лишь лопатка, несущая снизу сочленовную ямку, передний коракоид полностью исчез, а задний образует небольшой коракоидный отросток на лопат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ногих бегающих (копытные) и прыгающих (хищные) млекопитающих, движения конечностей которых ограничены одной плоскостью, ключицы исчезают, полностью освобождая пояс от связей с осевым скелетом и способствуя тем самым амортизации резких толчков. У насекомоядных, грызунов, рукокрылых, приматов с более сложными движениями конечностей ключицы разв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18F-201D-4297-8A74-70C7A7F2D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ний, или тазовый пояс конеч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для причленения брюшных плавников или задних конеч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ыб - парные хрящевые или костные плас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ружены в толщу туловищной мускул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ы с осевым скел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земных позвоночных в спинной части разв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здош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леняется первично с одним, в дальнейшем с большим числом крестцовых позво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рюшном отделе - лобковая и седалищная 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соединения этих 3 костей формируется сочленовная (вертлужная) ямка для головки бе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D327-36BE-4B29-9F79-6F154B88E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овр. земноводных часть таза хрящев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есмыкающихся между лобковой и седалищными костями образуется б. или м. развитое отверст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тиц и нек-рых динозавров лобковые кости направлены не вперёд, а назад вдоль седалищных костей, причём и те и другие не сращены по срединной линии - откладка крупных яиц в твёрдой скорлу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лекопитающих все кости таза срастаются, образуя единую к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AEB-F58B-4221-9297-FC201006C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2_14"/>
          <p:cNvPicPr/>
          <p:nvPr/>
        </p:nvPicPr>
        <p:blipFill>
          <a:blip r:embed="rId1"/>
          <a:stretch/>
        </p:blipFill>
        <p:spPr>
          <a:xfrm>
            <a:off x="1692360" y="907920"/>
            <a:ext cx="69246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729C-E700-49FA-B0E9-C1CE900E4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скул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- прикрепление двигательной мускул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одных позвоночных - метамерное стро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большей части тела в двигательном акте. Метамерность нарушается лишь в области парных плавников, и висцерального черепа, - движение челюсти и жабер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земных - лентовидные и иной формы мышцы (мускул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масса мускулатуры конечностей, туловищная мускулатура уменьшается.    возрастание подвижности и маневр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6804000" y="494172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6D0-5DB6-46AB-AD70-366275988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ревних бесчелюстных рот сосущий, у современных круглоротых развивается присасывательная воронка и аппарат всасывания крови и лизированных тканей жертвы (особенно у микси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челюстноротых - зубы - возможность захвата, удержания, иногда механической обработки пищи. Преобразование зубов - расширение спектра п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дифференцировки и удлинения пищеварительной трубки, разделяющейся на ротовую полость, глотку, пищевод, желудок и несколько отделов кишеч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не ротовой полости- язык с собственной мускулатурой и скелетом (подъязычный аппара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амфибий - появляются слюнные желе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змей - в ядовитые желе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922-7CD2-4F02-A61D-5D72D588C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отка, желу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 у водных пронизана жаберными щ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земных позвоночных с глоткой связаны ле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 — тонкая, растяжимая трубка, переходящая в желу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 - расширение кишечной трубки, с развитой мускулатурой стенок; это обеспечивает перемешивание и перетирание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изистой - пищеварительные железы, выделяющие имеющий кислую реакцию желудочный сок. - пепсин, химозин и лип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8C5-037E-4405-B633-CE54ED501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-четыре отд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нкая кишка (в ее переднюю часть, называемую двенадцатиперстной кишкой, открываются протоки печени и поджелудочной железы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стая ки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няя (или прямая) кишка, открывающаяся в клоаку или самостоятельным анальным отверст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ранице между тонкой и толстой кишками развивается слепая кишка (в зачаточном состоянии - у пресмыкающихся, слабо развита у птиц и хорошо  у млекопитающи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развита мускульная оболочка - перистальтика кишеч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поверхность кишечника увеличивается – улучшение переваривания и всас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 высших рыб как вырост спинной части начала кишечника образуется плавательный пузырь, выполняющий функцию гидростатического органа и барорецептора, а иногда и добавочного органа дыхани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003-B428-4B55-8B13-A73397040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ыхатель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ервичноводных (бесчелюстные и рыбы) образуются жаберные щели, соед. полость глотки с внешней ср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есчелюстных (круглоротых) в жаберных щелях развиваются складчатые сте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водных челюстноротых на перегородках между жаберными щелями развиваются складки слизистой оболочки — жаберные лепестки; их совокупность составляет жабры. К жаберным лепесткам кровь приносится артериями, а в них развивается густая сеть капилля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поверхности поглощения кислорода - уменьшением числа жаберных щ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цельноголовых (из хрящевых рыб) образуется кожистая (не имеющая костей) жаберная крышка, прикрывающая снаружи  щ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стных рыб в жаберной крышке костный скелет, а межжаберные перегородки редуциру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функция жабр — газообме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добавочных органов дыхания у отдельных групп рыб функционируют кожа, плавательный пузырь и специализированные участки кишечн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375-A02B-40BB-871B-70448FC22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люстноро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athostoma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клас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ыб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c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клас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твероног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pod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F21-1D98-4EB7-9B7E-6D0B4466A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Картинка 9 из 2974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BCFE-6AED-41AE-AB37-15CA893A9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ногоперовых и двоякодышащих рыб - парные выпячивания задней брюшной части глотки. функционируют как легк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личинок земноводных - жаберные щели и внутренние и наружные жабры, - замена легкими, - парные выпячивания брюшной части глотки в области последней жаберной щ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ервично наземных позвоночных — амниот (пресмыкающихся, птиц и млекопитающих) на относительно ранних стадиях зародышевого развития возникают зачатки жаберных щелей, вскоре исчезающ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рюшной стороне глотки - парные выросты – 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поверхность легких увеличивается – ячеистое 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фикация дых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внутренней поверхности лег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е грудной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013C-BF1F-4E2A-AB4D-94B261602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дкие мускульные волок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эндотелиальная обо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веществами между кровью и тканевой жидк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среды организ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лет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тканевая с межклеточной жидкостью — лимф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яное русло с кро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2556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8CC-26F9-453A-AA86-2B419F571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еспечивает ток крови по сосу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о как расширение брюшной а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ки - поперечнополосатая мускул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камерным (круглоротые, рыбы), - одно предсердие  и один желудо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хкамерным (земноводные, пресмыкающиеся) — из двух предсердий и одного желуд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камерным (птицы, млекопитающие) — из двух предсердий и двух желудоч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487B-3BEF-4476-BDFF-0945DFF76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вообра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 отделы сердца — венозная пазуха и артериальный конус; в разных класс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типа сос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более толстостенным артериям кровь течет от сердца (из желудо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енам она двигается к сердцу, попадая в венозную пазуху и предсерд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E39-DE8F-4CC3-969E-E93829DCA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и кровооб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одных позвоночных (круглоротые, рыбы) только один круг крово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желудочка кровь - в жабры, где насыщается кислор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пинной аорте - по всему телу, отдавая питательные вещества и кислород и насыщаясь продуктами распада; по венам венозная кровь возвращается в  предсерд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8A5-F520-43BC-A8E4-322C72084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и кровооб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земноводных и пресмыкающихся - два круга кровообращения (намечаются у двоякодышащих рыб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(легочный) и большой, четко не раздел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ь из предсердий поступает в единый (иногда перегородками частично разделенный) желуд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круг начинается в желудочке, включает легкие и завершается в левом предсер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й круг кровообращения: от желудочка по сосудам всего тела в правое предсерд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евое предсердие - артериальная кровь из лег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е — венозная кровь со всего тела и — у земноводных — примесь артериальной крови, (в капиллярах кож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кращении предсердий кровь -в желудочек; неполные перегородки и карманы уменьшают перемешивание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8626-225C-4DF9-A1F7-281025B03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делитель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ы выделения - парные п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зародышей (личинок) позвоночных - головная почка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неф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фр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труктурная единица: собрание нефридиальных канальцев, - мерцательные воронки (нефростомы) в полость тела - выросты из клубочков артериальных капилляров. Капсулообразные расширения - боуменовы капсу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C97-5497-4560-82AB-ACD9F72D3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зонеф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родышевом (личиночном) состоянии позади пронефроса образуется первичная, или туловищная, почка мезонеф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почечных канальцев мезонефроса имеют нефростомы (воронки) и мальпигиевы тель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их теряет воронки, имея только хорошо развитые мальпигиевы тельца. Возвращение в кровь воды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харов, витаминов и др. в выводных канальц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2D8-904C-438B-B1CF-357B8016D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о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 времени образования мезонефроса проток предпочки (пронефроса) у хрящевых рыб расщепляется на два канала: вольфов и мюлл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льфов канал открываются протоки мезонефр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амцов анамний вольфов канал выполняет функцию и мочеточника, и семяпров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амок вольфов канал выполняет только функцию мочеточ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юллеров канал становится яйцеводом; при этом один из нефростомов пронефроса превращается в воронку яйце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ревшая в яичнике яйцеклетка разрывает оболочку фолликула, выпадает в полость тела и через воронку попадает в мюллеров канал — яйц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186-86F9-412D-B02B-96B525765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люстнорот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athostom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оводные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mni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ыбы и земноводные; последние вышли на сушу, но сохранили тесные связи с вод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оназемные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nio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есмыкающиеся, птицы, млекопитающие; некоторые из них вторично перешли к водному образу жизн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6C0D-9A40-4913-9B47-C2FE1A2D3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хема развития мочеполовой системы у высших наземных позвоночных (А — исходная стадия; Б — мочеполовой аппарат самки; В — мочеполовой аппарат самца): 1 — предпочка(пронефрос); 2 — первичная почка (мезонефрос); 3 — вторичная почка (метанефрос); 4 — гонады; 5 — яичник; 6 — семенник; 7 — мочевой пузырь; 8 — вольфов канал; 9 — мюллеров канал; 10 — прямая кишка; 11 — мочеточник; 12 — мочеиспускательный канал; 13 — матка; 14 — придаток яичника (остаток первичной почки); 15 — придаток семенника (видоизмененная первичная почк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780000" y="333000"/>
            <a:ext cx="4906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Большая Советская Энциклопедия (ВЫ)"/>
          <p:cNvPicPr/>
          <p:nvPr/>
        </p:nvPicPr>
        <p:blipFill>
          <a:blip r:embed="rId1"/>
          <a:stretch/>
        </p:blipFill>
        <p:spPr>
          <a:xfrm>
            <a:off x="3924360" y="476280"/>
            <a:ext cx="5219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C83-009A-417C-B597-6F1315994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Картинка 6 из 10"/>
          <p:cNvPicPr/>
          <p:nvPr/>
        </p:nvPicPr>
        <p:blipFill>
          <a:blip r:embed="rId1"/>
          <a:stretch/>
        </p:blipFill>
        <p:spPr>
          <a:xfrm>
            <a:off x="2268360" y="1341360"/>
            <a:ext cx="43056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D99-DA3F-4BED-A16C-5649A4B09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еф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зверей нижняя часть яйцевода часто образует расширение — ма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юллеров и вольфов каналы открываются в кло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рюшной части клоаки обычно образуется тонкостенное выпячивание — мочевой пуз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зародышей первично наземных позвоночных (амниот) образуется пронеф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адывается мезонефрос и возникают вольфов и мюллеров кан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торой половине зародышевого развития в тазовой области образуются канальцы вторичной, или тазовой, почки; они удлиненны и извиты, не имеют вор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язи с клоакой формируются совокупительные органы. У млекопитающих клоака исчезает и формируется самостоятельное мочеполовое и анальное отверс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505-E452-485B-8B46-CD13F31F4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Картинка 7 из 10"/>
          <p:cNvPicPr/>
          <p:nvPr/>
        </p:nvPicPr>
        <p:blipFill>
          <a:blip r:embed="rId1"/>
          <a:stretch/>
        </p:blipFill>
        <p:spPr>
          <a:xfrm>
            <a:off x="324000" y="476280"/>
            <a:ext cx="80643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7CB-F228-4B3F-98B9-3B58244A4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ночные животные, как правило, раздельнополы. Половые железы обычно парные. Яичники  имеют более или менее заметное зернистое строение. Семенники  отличаются гладк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анамний характерно наружное оплодотворение, но у хрящевых и некоторых костных рыб, хвостатых и безногих земноводных возникает внутреннее оплодотворение. Яйца анамний способны развиваться только в водной (или, в редких случаях, в очень влажной) среде. Лишь у немногих групп появляется яйцеживорождение (задержка развивающегося яйца в нижних частях яйцево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3F6F-BB66-4658-A0B1-8B09F0906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ной мозг представлен у позвоночных животных пятью отдел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д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межуточны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зже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долговат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ной мозг закладывается эмбрионально в виде вздутия переднего отдела нервной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ся на три первичных мозговых пузы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пузырь - передний мозг, у большинства позвоночных, - обособленные полушария моз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их полости - боковые желуд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4321-B297-4CF2-BB79-74FDE8800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Картинка 1 из 855"/>
          <p:cNvPicPr/>
          <p:nvPr/>
        </p:nvPicPr>
        <p:blipFill>
          <a:blip r:embed="rId1"/>
          <a:stretch/>
        </p:blipFill>
        <p:spPr>
          <a:xfrm>
            <a:off x="1042920" y="260280"/>
            <a:ext cx="4614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B35-2CC2-4D53-BF95-BE74D9C0D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яя часть переднего пузыря - в 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щий парные боковые выпячивания — глазные пуз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ть промежуточного мозга – третий желудо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пузырь превращается в 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полость - сильвиев водопро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яя часть заднего пузыря - мозжеч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ая часть заднего пузыря - продолговатый мозг, в спинной моз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ть продолговатого мозга — четвертый желудочек, или ромбовидная ямка, — продолжается в полость спинного мозга — невроц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77B-E46C-4DFC-893E-33AE9814D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щество 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е отростки нейронов — дендриты —серое вещество моз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ные отростки— аксоны, или невриты, окруженные неврилеммой (шванновскими клетками) и миелиновой оболочкой- белое вещ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масса серого вещества переднего мозга расположен в виде полосатых тел на дне и в его парных выпячиваниях — обоняятельных доля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DC38-F3D8-42D4-A02A-036A5E1DD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х переднего мозга — ман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большинства низших позвоночных образован только белым веще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воякодышащих рыб и земноводных - немного нервных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ресмыкающихся в мантии имеется серое вещество (скопление нервных клеток), - зачаток коры больших полушар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ц объем переднего мозга резко возрастает, но сохраняется тот же тип строения, что и у пресмык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лекопитающих величина переднего мозга увеличивается - развитие серого вещества на поверхности ман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слой нервных клеток, функционирующий как высший ассоциативный центр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а больших полуша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зделяют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ую к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гиппокам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palli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u hipocamp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зачаток корыпресмык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ичную к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palli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На ней - борозды (извилины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F0A-27A0-492B-908F-4572D4010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черты организации позвоноч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те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ные позвоночные - «рыбообразное» веретеновидное удлиненное тело: голова, туловище и хвост. Парные (отсутствуют у круглоротых) и непарные плав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емные позвоночные – появл. шейный отдел,  уменьш. хвостовой отдел. Непарные плавники редуцируются, а парные превращаются в рычажные конечности наземного ти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EBA6-C53F-4930-8754-FBBBA6B4E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лщенные стенки промежуточного  мозга называют зрительными буг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онкой крыше промежуточного мозга развиваются два пузыревидных образования: передний называется теменным или париетальным органом, а задний — пинеальным органом или эпифизом (ер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У круглоротых оба образования выполняют роль светочувствительных органов; оба несут и секреторную функцию. У остальных позвоночных животных эпифиз функционирует только как железа внутренней секреции. Теменной (париентальный) орган сохраняется у некоторых рыб, земноводных и у части пресмыкающихся как светочувствительный орган; у остальных позвоночных исчез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123-EC20-47F1-B734-047078AD7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ша среднего мозга приподнята парными зрительными долями и образует двухолмие, у млекопитающих оно превращается в четверохолм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есмыкающихся и особенно у птиц и млекопитающих размеры мозжечка еще более возрастают, а поверхность его коры, образованной серым веществом, увеличивается благодаря образованию глубоких и сложных складок. Мозжечок — центр координации движений и равновесия; участвует он и в регуляции тонуса мышц и других физиологических проце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10C-25E4-47AE-9181-2BDC0DEBC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говатый моз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яция физиологических процес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т в спинной, лежащий в канале, образованном верхними дугами позво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связи центральной и вегетативной нервной системы создают возможность известной взаимозаменяемости нервных центров. Гормональная система представлена разнообразными железами внутренней секреции. Ее сложность нарастает в эволюционном ряду позвоноч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511-DB2D-46A3-B843-E7D945F63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Картинка 10 из 12999"/>
          <p:cNvPicPr/>
          <p:nvPr/>
        </p:nvPicPr>
        <p:blipFill>
          <a:blip r:embed="rId1"/>
          <a:stretch/>
        </p:blipFill>
        <p:spPr>
          <a:xfrm>
            <a:off x="250920" y="549360"/>
            <a:ext cx="81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0AB2-21FE-4DDB-9721-A140DF37F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37 из 13001"/>
          <p:cNvPicPr/>
          <p:nvPr/>
        </p:nvPicPr>
        <p:blipFill>
          <a:blip r:embed="rId1"/>
          <a:stretch/>
        </p:blipFill>
        <p:spPr>
          <a:xfrm>
            <a:off x="971640" y="333360"/>
            <a:ext cx="48578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36:47Z</dcterms:created>
  <dc:creator>Admin</dc:creator>
  <dc:description/>
  <dc:language>en-US</dc:language>
  <cp:lastModifiedBy>Нейдорф</cp:lastModifiedBy>
  <dcterms:modified xsi:type="dcterms:W3CDTF">2016-02-02T10:39:58Z</dcterms:modified>
  <cp:revision>123</cp:revision>
  <dc:subject/>
  <dc:title>Характеристика подтипа ПОЗВОНОЧНЫЕ ИЛИ ЧЕРЕПНЫЕ</dc:title>
</cp:coreProperties>
</file>