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0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2CAD-25D9-4509-83DF-2FEAC510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EAE8-277B-45DD-8FF5-07A4CF79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1521-F6D3-4DFD-B93C-131AF4C8C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8AD7-D8F3-4848-86AC-660F0C1F7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2C2D-385E-4063-BC2C-9E44C5F7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BE0F-557D-4828-AE0C-4E0F7071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5B96-CDA9-4F79-A6B2-DA103E3D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5AEF-84F0-4596-B525-25A63111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0936-5894-465F-AACD-2DF4B48B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FD3A-44AF-4201-9A9F-C664EBE7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87E1-3EB5-45EB-9C64-D3AF1C93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D4AE-DA48-4CD2-B447-5A66A0D0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1B83-4A9F-4BD1-B059-9241BDF62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дтип Бесчерепные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зникновение подтипа позвоноч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кция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D84C-CA53-425B-8F66-20B1DEB6B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кнутая, представлена потоками артериальной и венозной крови. Сердца н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ртериальная систе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од глоткой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рюшная аор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обе стороны - парны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жаберные артер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а спинной стороне глотки окисленная кровь - в парные наджаберные сосуды, ил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рни спинной аор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С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инная аор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д хордой, идет вдоль те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енозная систе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т переднего конца тела - парны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яремны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ил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редние кардиналь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вены, несущие кровь назад. От заднего конца тела –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дние кардинальные ве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ровь течет вперед. Передние и задние кардинальные вены сливаются - два (левый и правый) -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ювъеровых прото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Из кювьеровых протоков кровь - в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енозный сину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ткуда берет начало брюшная аор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к крови - пульсация брюшной аорты и нижних частей жаберных сосудов ("жаберные сердца"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вь бесцветна: она не содержит ни форменных элементов, ни пигмен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4978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DCE0-9CC9-4E05-9FC9-B938FE489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ыхание - через кожу и жаберные щ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Картинка 1 из 58"/>
          <p:cNvPicPr/>
          <p:nvPr/>
        </p:nvPicPr>
        <p:blipFill>
          <a:blip r:embed="rId1"/>
          <a:stretch/>
        </p:blipFill>
        <p:spPr>
          <a:xfrm>
            <a:off x="3780000" y="476280"/>
            <a:ext cx="50479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44BB-B9E5-4E7E-A7F2-A02483B6E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ыделительная систем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оло 100 пар нефридиев - метамерно над полостью глот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фростомы замкнуты группой клеток с мерцательным пламенем - постоянно работающим жгути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стенкам трубки нефридия прилегают капиллярные клубочки, продукты обмена - в цел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целома продукты распада - в соленоцит, далее  в просвет нефридиальной трубки, - при помощи биения жгутиков соленоцитов и клеток мерцательного эпителия, выстилающих труб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отверстия нефридия - в околожаберную полость и выводя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9ED3-DEBC-44FD-B43A-BBB8D9E65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змн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дельнопо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нады самцов и самок похожи распределены посегментно на стенке тела, примыкающей к атриальной пол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вых желёз (гонад) обычно 25—26 па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вых протоков нет, и  половые клетки попадают в атриальную полость через разрывы стенок гона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тип позвоноч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FCFF-C9FE-43CF-A4B2-7D4BBA913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тип позвоноч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здел бесчелюст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nath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здел челюстнорот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nathostomat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 flipV="1">
            <a:off x="3348000" y="3068280"/>
            <a:ext cx="14400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3419640" y="4076640"/>
            <a:ext cx="1081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ДКЛАСС I. БЕСЧЕЛЮСТНЫЕ (AGNAT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ласс Щитковы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Ostracoderm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ласс Круглороты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Cyclostom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йденные в Китае две ископаемые формы стали древнейшими известными черепными — эти находки датируются ранним кембрием, около 530 миллионов лет назад. Эти ранние формы являются прямыми или опосредствованными предшественниками вообще почти всех позвоночных, и их находка свидетельствует, что позвоночные принимали участие во «взрыве» биоразнообразия организмов (Metazoa) в кембрии. Оба ископаемые останка являются небольшими по размеру (25 и 28 миллиметров), и имеют хрящевой череп, от пяти до девяти пар жаберных пузырей, большое сердце позади последней пары жаберных пузырей, хорду, зигзагоподобные блоки мышц (миомеры) и спинной плавник (одна из двух находок), поддерживаемый плавниковыми лучами. Одно из существ, Myllokunmingia, признано общим предшественником всех черепных, кроме миксин. Другое существо, Haikouichthys, определено как близкий родственник миног. В отличие от большинства других бесчелюстных, эти ранние формы не имели чешуи или защиты из костных пласт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Haikouichth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77058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8A4D-3780-427F-865F-57F49D95D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дтип БЕСЧЕРЕПНЫЕ (ACRANIA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о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лупрозрачное, белёс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жато с боков и удлинено. 5—8 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нижней стороне переднего конца - предротовая воронка (или полость) окружена ротовыми щупальцами 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доль спины - плавниковая складка — спинной плавник. переходит в хвостовой, копьевидной фор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переднего конца тела до подхвостового плавника по бокам идут метаплевральные склад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есте схождения метаплевральных складок и хвостового плавника располагается атриопор, (жаберная пора) — выводное отверстие атриальной, или околожаберной, пол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yllokunmin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Myllokunmingia.png"/>
          <p:cNvPicPr/>
          <p:nvPr/>
        </p:nvPicPr>
        <p:blipFill>
          <a:blip r:embed="rId1"/>
          <a:stretch/>
        </p:blipFill>
        <p:spPr>
          <a:xfrm>
            <a:off x="826920" y="1989000"/>
            <a:ext cx="741708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есчелюс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амые примитивные из известных позвоноч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аибольшее многообразие в эволюции широко и представлены в силуре - девоне и затем в антропогене, в том числе и в настоящее врем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арактерные особен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утствие челю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т сосущего ти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утствие парных конеч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арная обонятельная капсула с одной ноздр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а полукружных канала во внутреннем ух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аберные мешки энтодермального происхо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9280" y="-284040"/>
            <a:ext cx="6496200" cy="71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9 видов - отряд миноги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6 видов - отряд микси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обенности стро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ты, связанные с полупаразитическим и паразитическим образом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нешний ви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о удлиненное, угреобразное, без парных конечностей. Спереди на голове широкая присасывательная воронка -роговые зу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жа плотная, гол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гата железистыми клетками, выделяющими слиз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парное ноздревое отверстие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расположено у мино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наверху головы, между глазами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у миксин оно находится на переднем конце голов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зади ноздри имеется светочувствительное пят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ДС.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ке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евой скелет - хорда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оторая окружена толстой соединительнотканной оболочкой, окружающей не только хорду, но и лежащую над ней нервную трубк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оединительнотканной оболочке имеется парный ряд хрящиков, представляющих собой зачатки верхних дуг позвонков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Эти хрящики примыкают к верхнему краю хорды и спинной мозг расположен внутри образовавшегося кана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зговой чере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н очень примитивен и представлен хрящевой пластинкой, подстилающей головной моз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средине пластинки находится отверстие, через которое проходи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гипофизарный выр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боков к пластинке примыкают (но не срастаются с ней) хрящевые слуховые капсулы, а спереди расположена хрящевая обонятельная капсула. Ниже пластины мозгового черепа имеется система хрящей, поддерживающих ротовую воронку и язы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сцеральный ске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миног представлен девятью парами сочлененных жаберных дужек, которые связаны между собой четырьмя продольными хрящевыми тяжами. Эта хрящевая решетка поддерживает жаберный аппар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рящевая околосердечная сум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E251-9E4D-4A78-B5E7-7ACFED77B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кро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жа  однослойный 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пители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(эпидермис),  на подстилающей тонкой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азальной мембран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Сверху покрыт кутикул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741672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инаются предротовой воронкой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ооруженной роговыми зубами. Мощный язык несет самый крупный зуб - "терк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товое отверсти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жит на дне воронки и ведет в глот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миног глотка разделена на две части: верхнюю, по которой проходит пища, и нижнюю - она оканчивается слепо и связана с жаберными меш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лудок не разв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щевод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ходит непосредственно в кишку. Кишка не делится на отделы и не образует петель. Внутри - складка, именуема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пиральным клапан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она увеличивает поверхность кишки и замедляет прохождение пищ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руглоротым свойственно выделять пищеварительные соки в тело жертвы, где и начинается химическая обработка пищи (внекишечное пищеварение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еется печень, она развивается как вырост переднего отдела кишки. Поджелудочная железа в зачаточном состоя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рганы дых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ены жаберными лепестками. Однако жаберный аппарат своеобразен. Узкие округлые наружные жаберные ходы ведут в жаберные ме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нки покрыты многочисленными пластинками, где ветвятся кровеносные сосу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ротивоположной стороне жаберных мешков расположены внутренние жаберные ходы, ведущие в глот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аберные мешки и их лепестки у круглоротых имеют энтодермальное происхо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рганы кровообращ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меется сердце, состоящее из двух камер - предсердия и желудоч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положено в начале брюшной аорты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способствует усилению кровото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 предсердию примыкает тонкостенный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енозный синус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венозная пазуха), куда впадают все венозные сосу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 брюшной аорты отходят парные приносящие жаберные артер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носящие жаберные артерии впадают в непарный корень аорты, от которого отходят вперед сонные артерии, а назад корень аорты продолжается в основной артериальный ствол - спинную аорту - расположена непосредственно под осевым скелетом. Кровь от спинной аорты поступает ко всем органам те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 головы венозная кровь собирается в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арные передние кардинальные (яремные) ве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впадающие в венозную пазуху. Сюда же поступает кровь из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задних кардинальных в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собирающих кровь от туловищ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кишечника кровь собирается в подкишечную вену, попав в печень, она образует воротную систему кровообращения. Из печени кровь по печеночной вене изливается в венозную пазух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ервная систем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ловной мозг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меет четыре типичных для позвоночных отдела: передний, промежуточный, средний, продолговат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зжечок почти не развит. Размеры мозга относительно малы. Все отделы расположены в одной плоскости, т.е. не образуют типичных для более высокоорганизованных позвоночных изгиб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ыша мозга не имеет нервного вещества и целиком эпители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ловных нервов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па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рганы чув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 слуха представлен внутренним ухом - перепончатым лабиринтом с двумя (у миног) или одним (у миксин) полукружными канал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за развиты слабо. У миног недоразвита роговица, у миксин глаза дегенерируют в связи с паразитическим образом жи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 обоняния непарны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оже с обеих сторон тела проходит боковая линия. Она представлена неглубокими ямками, на дне которых расположены окончания блуждающего нерва (X пара головных нервов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рганы выде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лены мезонефрическими почками, к переднему концу которых примыкают остатки пронефроса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некоторые считают, что у рода миксин Bdellostoma сохраняется функционирующий пронефро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четочниками служат вольфовы каналы, впадающие в мочеполовой сину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ловые желез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парные и не имеют специальных протоков. Половые продукты через разрывы стенок гонады выпадают в полость тела, откуда попадают в мочеполовой синус и через канал мочеполового сосочка наруж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DA9C-15FA-4715-8CC8-687BEA5CC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ДС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орно-двигательн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евым скелетом ланцетников является хорда, или нотохор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етлый, вертикально исчерченный стержень, тянется вдоль спинной стороны те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скулатура метамерна - сегментное строение, по обе стороны хор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омеры (или миотомы) — мышечные сегменты в количестве 50—80 штук, разделены миосептами — студенистыми сдт перегород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еет конусовидную форму, вершина вкладывается в выемку следующего сегмента - связь между миомерами и осевым скеле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ланцетников характерна асимметрия мускулатуры тип сегментации вендской фауны, симметрия скользящего отраж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головного конца тела до атриопора по брюху ланцетника проходит особый слой несегментированных поперечных мыш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зви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миног происходит с превращением: из яйца вылупляется личинка, известная под названием пескоройка. Она существенно отличается от взрослой миноги. Рот у нее в виде воронки с нависающей верхней губой. Глотка не разделена на дыхательный отдел и пищевод, на ее брюшной стороне находится железисто-ресничная бороздка, вполне гомологичная эндо - стилю ланцетника: как и эндостиль, она улавливает взвешенные в воде пищевые частицы и направляет их в пищевод. Личинка значительную часть времени проводит зарывшись в грунт дна, образом жизни напоминая ланцетника. Весь период метаморфоза у миног занимает обычно несколько (2-5) лет. Размножаются все миноги в пресной воде, а живут в морях, озерах, реках и ручь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ласс Остракодерм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 (Щитковы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7272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57268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27236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06472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632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70581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306360"/>
            <a:ext cx="914400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-181080" y="620640"/>
            <a:ext cx="946800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94298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FE1D-DE5F-44EC-B427-CDB219627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игаются  червеобразно, за счёт сокращения миомеров, последовательно изгибающих тело (ундулирующее движение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72453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5A13-18E0-4886-86DD-720E557A7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Картинка 6 из 58"/>
          <p:cNvPicPr/>
          <p:nvPr/>
        </p:nvPicPr>
        <p:blipFill>
          <a:blip r:embed="rId1"/>
          <a:stretch/>
        </p:blipFill>
        <p:spPr>
          <a:xfrm>
            <a:off x="395280" y="1052640"/>
            <a:ext cx="82803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DA09-9A97-4CA2-B611-F942CE220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товые щупальца и предротовая воронка      ротовое отверстие, окружено мускулистой кольцевой перепонкой — пару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тка до трети длины тела, пронизана жаберными щелями - свыше 100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риальная полость окружает глотку по бок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тка имеет две борозды, выстланные ресничным и железистым эпител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тка переходит в короткую, без изгибов кишку, которая заканчивается анальным отверст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пой пальцевидный печёночный вырост, - пищеварительные ферменты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2411280" y="2421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>
            <a:off x="2411280" y="242100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3T07:44:55Z</dcterms:created>
  <dc:creator>Анна</dc:creator>
  <dc:description/>
  <dc:language>en-US</dc:language>
  <cp:lastModifiedBy>Анна</cp:lastModifiedBy>
  <dcterms:modified xsi:type="dcterms:W3CDTF">2016-02-23T09:07:05Z</dcterms:modified>
  <cp:revision>40</cp:revision>
  <dc:subject/>
  <dc:title>Подтип Бесчерепные Возникновение подтипа позвоночные</dc:title>
</cp:coreProperties>
</file>