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2FB-29DF-47DD-9427-9A133C8A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519-CC14-41A2-8BDA-504AAB9E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B7E-3DB4-4B20-AB2F-ED97944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C04-F0E7-4239-AA2D-8C93AF5A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784-394C-4262-955C-CD915D07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2DD-0874-4215-A205-246BE0F5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A49-F239-4BF5-A3C6-08BAE68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9B2-FAFD-4014-ABE9-6D8129F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536-39E4-42A0-855C-13AA5DCC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8BA-A265-4B0F-96C4-F74C86D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C5E-B5CB-40EB-A1A9-E152F3A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FE1-20ED-4E6D-A8F3-E56A750E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8D00-7EE8-4655-8B35-59AFB5B0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дкласс Рыбы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систематические группы позвоно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4883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зговой отдел черепа большей величины, чем у бесчелюстных, закрытый со всех сторон (с небольшим отверстием посредине крыш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состав висцерального отдела черепа вхо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нёбноквадратных хрящ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авый и левый), выполняющих роль верхних челю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меккелевых хрящ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авый и левый), служащих как нижние челю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ъязычная д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ая из двух верхних хрящей (правого и левого), которые прикрепляются к мозговому череп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находятся лабири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двух нижних хрящей (подъязыч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ленистые жаберные ду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авые и левые, число которых у большинства видов 5—7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звоночный стол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нок состоит из тела с вогнутыми поверхностями (передней и задней). Такие позвонки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яковогнут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амфиц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 - в виде узкого стержня, проходящего через центры тел позво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тел позвонков вверх отходят два отростка, которые образу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хнюю дугу с остистым отрос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тел позвонков книзу отходят образующие нижнюю дугу поперечные отростки, а от них — короткие 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нале, который образуется отверстиями в верхних дугах позвонков и вставочными пластинками между позвонками, находится спинной моз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пере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арные плавники - спинной, анальный и хвост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рные плавн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грудные и брюш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пасти всех плавников имеют скелет и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оговых луч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орой для спинных и анального плавников служат хрящи, расположенные в мыш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хвостового — задний конец позвон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грудных — плечево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брюшных — тазовый поя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77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ит из большого количества боковых сег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а и сила  возро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щные мышцы находятся у акул в хвостовой 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ы мышцы, обеспечивающие движение плавников, жаберного аппарата и челю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пластиножаберных —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 обширна, челюсти вооружены крепкими острыми зубами, возникшими из плакоидных чешуи, переместившихся в процессе эволюции в 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ротовой полостью идут глотка, короткий пищевод, объемистый желудок, кишка и кло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ьную часть кишки открываются протоки печени и поджелудочной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шка короче, чем у костистых рыб, но ее внутренняя поверхность сильно увеличена благодаря наличию спиральной складки, число оборотов которой может достигать пятидес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часть дыхательной системы составляют большие жаберные пластины эктодермального происхождения, прикрепленные одной из сторон к межжаберным перегород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поверхность пластин обеспечивает достаточно интенсивный газообмен. При вдохе глотка расширяется, вода поступает через рот и омывает жаберные пластины. При выдохе объем глотки уменьшается и вода выходит наружу через жаберные щели, число которых у большинства видов 5, а у меньшинства видов 7. Жаберных крышек у хрящевых рыб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класс 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Хрящевые рыб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Chondrichthy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Костные рыбы (Osteichth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дце, как и у бесчелюстных, состоит из предсердия и желудочка, но величина и сила его мускулатуры возросли в связи с более активным образом жизни этих ры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желудочка отходи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ртериальный кон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мышечная ткань которого такая же, как и сердца, поперечнополосатая, способная к сильным сокращ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артериального конуса кровь переходит в брюшную аорту и далее по приносящим жаберным артериям в жаб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ыщается кислородом и отдает углекислый га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 жаберные выносящие артерии, впадающие в спинную аорту, и многочисленные артериальные сосуды разносится по всему те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тдачи кислорода тканям и насыщения углекислым газом кровь по венам попадает в сердце. Следовательно, у хрящевых рыб, как и у бесчелюстных, один круг кровообращения и через сердце проходит только венозная кров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а двумя длинными туловищными поч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 которых усложнилось: многие почечные канальцы лишены воронок и начинаются более крупными гломерулами (мальпигиевыми тельцами) — клубочками капилляров, окруженными боуменовыми капсу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езультате этих изменений значительная часть продуктов диссимиляции поступает в канальцы не из целома, а из кровеносных сосу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ножаберные раздельноп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нники (два вытянутых тела) лежат в брюшной полости на уровне пищевода. От них отходят тонкие семявыносящие каналы, впадающие в передние части почек, откуда сперматозоиды по вольфовым каналам попадают в клоаку. Таким образом, вольфовы каналы служат у самцов мочеточниками и семяпроводами. Яичники (их два) расположены в брюшной полости там, где у самцов находятся семенники. Созревшие яйцеклетки попадают в полость тела, а из нее — в воронки яйцеводов. Следовательно, прямого соединения яичников с яйцеводами нет. Яйцеводы образуются следующим образом: во время эмбрионального развития этих рыб зачаток канала туловищной почки расщепляется продольно на два канал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ъфов и мюлле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вый становится у обоих полов мочеточником, второй превращается у самок в яйцевод, а у самцов остается в виде рудимента или совсем исчезает. Яйцеводы открываются в клоа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одотворение внутреннее, семя вводится самцами в клоаку самок при помощи совокупительны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 КОСТНЫЕ РЫБЫ (OSTEICHTHY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стные рыбы — самый большой класс позвоночных животных, насчитывающий около 20000 видов. Самые древние представители этого класса произошли от хрящевых рыб в конце силура. В настоящее время 99 % класса принадлежат к так называемым костистым рыбам, которые впервые появились в середине три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тела рыб различна — от нескольких сантиметров до нескольких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а большинства костистых рыб покрыта небольшими костными, сравнительно тонкими чешуями, черепицеобразно налегающими друг на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щают рыб от механических повреждений и обеспечивают достаточную гибкость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ечение эволюции класса скелет окостен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Хорда сохранилась лишь у низших представителей класса, число которых незначи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 кости возникают в результате замещения хрящей костной тканью, другие развиваются в соединительнотканном слое кожи. Первые называю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нов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торые —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кровными костя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зговой отдел чере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собой коробку, защищающую головной мозг и органы чувств: обоняния, зрения, равновесия и сл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ыша черепа образована парными носовыми, лобными, теменными к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з черепа состоит (спереди назад) из сошника, парасфеноида (широкой длинной кости, очень характерной для черепа рыб) и основной 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няя часть черепа занята капсулой, охраняющей органы обоняния; по бокам расположены кости, окружающие глаза, и ряд костей (обычно 5), защищающих органы слуха и равнове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сцеральный отдел чере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ряда костных жаберных дуг, являющихся опорой и защитой жаберного аппа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 каждой из упомянутых дуг входит несколько косточек. Дуг 5 (с каждой стор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зу жаберные дуги соединяются между собой, а передняя из них связана с подъязычной дугой, которая состоит из нескольких 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яя из этих косточек — подъязычно-челюстная (гиомандибуляре) прикрепляется к мозговому отделу черепа в области слухового отдела и связана через квадратную кость с костями, окружающими ротовую пол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язычная дуга служит для соединения жаберных дуг с остальными частями висцерального отдела, а ее верхняя кость — с мозговым отделом чере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ночный столб состоит из большого количества двояковогнутых (амфицельных) позвонков, в промежутках между которыми сохраняются остатки хор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пере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стных рыб, как и у хрящевых, они представлены непарными (спинные, анальный, хвостовой) и парными (грудные и брюшные) плав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пасти плавников поддерживаются костными лу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и спинных и анального плавников опираются на косточки 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зал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лавниковые подпорки), лежащие в мышцах у края 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Костные рыбы (Osteichth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епёрые рыбы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ctinopteryg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астепёрые рыбы 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arcopteryg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антоды 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Acanthod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кодермы 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Placoder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92360" y="1989000"/>
            <a:ext cx="9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349360"/>
            <a:ext cx="1368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2708280"/>
            <a:ext cx="1150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299736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яса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ные плавники опираются на лежащие между мышцами пояса конечностей: грудные — на плечевой (или передний) пояс, состоящий из нескольких костей, верхняя из которых прикрепляется к черепу, брюшные — на тазовый (или задний) пояс, состоящий, как правило, из пары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чи хвостового плавника опираются на заднюю часть позвоночного стол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ьной складки нет, увеличение поверхности кишечника происходит за счет его удлинения. Кроме того, от начальной части кишки у многих высших костистых рыб отходят пилорические отростки, тоже увеличивающие поверхность кишки. Экскременты удаляются через анальное отверстие; клоак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желудочная железа представлена отдельными дольками, находящимися в печени или в стенках начальной части кишечника, т. е. не имеет еще компактной формы, но развита лучше, чем у хрящевых ры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и органами дыхательной системы являются жабры, состоящие из многих лепестков, прикрепленных проксимальными концами к жаберным дугам в отличие от жаберных пластин хрящевых рыб, прикрепленных одной стороной к межжаберным перегородкам. Следовательно, поверхность жабр костных рыб значительно больше, чем у хрящевых ры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совершенен и механизм вдоха и выдоха. Довольно значительная часть газообмена (в среднем около 10%) совершается через кожу. В газообмене могут принимать участие плавательный пузырь и некоторые части кишеч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ит из предсердия и желудочка, круг кровообращения один. Артериального конуса у костистых рыб нет, и артериальный сосуд, отходящий от желудочка, начинается луковицей а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ыделительной системе особую роль играют туловищные почки, расположенные в виде двух длинных темно-красных узких лент вдоль позвоночного стол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альные концы мочеточников (вольфовых каналов) соединяются и открываются наружу общим отверстием сзади анального отверстия. От дистальной части слившихся мочеточников отходит мочевой пузы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ая система костистых рыб по сравнению с хрящевыми и древними костными рыбами упрощена, но способна производить большое число га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удлиненных семенника (их часто называют молоками) находятся под почками по бокам плавательного пузыря. Семя выходит не через вольфов канал, а через короткую трубку, образованную оболочкой сем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семяпровода открываются наружу общим половым отверстием сзади анального и мочевого отверстий или общим мочеполовым отверс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и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х обычно два) в период размножения представляют собой объемистые мешки, наполненные икр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ит наружу не через мюллеровы каналы (они редуцируются), а через короткие трубки, идущие от половых желез и открывающиеся наружу самостоятельным отверстием или в общее мочеполовое отверс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овательно, созревшие яйцеклетки не попадают в полость тела, а быстро выходят из тела сам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лодотворение у подавляющего большинства видов костных рыб нару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 ЗЕМНОВОДНЫЕ, ИЛИ АМФИБИИ (AMPHIB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новодные — первые наземные позвоночные, еще сохраняющие связь с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 большинства происходит в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ые амфибии имеют парные конечности с шарнирными суста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п аутостиличный (нёбноквадратный хрящ срастается с мозговой коробкой), с шейным позвонком соединяется за счет образования двух затылочных мыщел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зовый пояс причленяется к поперечным отросткам крестцового позво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новодных состоит из головы, туловища и двух пар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Хвост был у древних амфибий — стегоцефалов, почти постоянно обитавших в воде, и сохранился у сравнительно небольшого числа видов, выделенных в отряд хвостатых (тритоны, саламандры), тоже проводящих в водоемах большую часть своей жизни во взрослом состоя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а голая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стная чешуя была только у стегоцефалов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едукция костной чешуи имела большое значение для приспособления первых наземных позвоночных к жизни на су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а богата железами, выделения которых усиливают защиту от высыхания и у ряда земноводных содержат ядовитые ве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антоды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canthod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040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тделена от лежащей под ней мускулатуры обширными полостями с водянистой жидкост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и полости, во-первых, уменьшают опасность высыхания тела, во-вторых, выполняют роль амортизаторов механических воздействий на поверхность тела, в-третьих, облегчают кожный газообмен, играющий у земноводных важную р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язи с приспособлением к наземному образу жизни скелет сильно изменился во всех своих ча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 амфибий имеет много хрящевых элементов, что, вероятно, объясняется необходимостью облегчить массу тела в связи с полуназемным образ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е черепа много костей, перечисленных при описании черепа высших ры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гиомандибуляре стала слуховой косточкой, то роль подвеска нижней челюсти выполняет квадрат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вязи с утратой во взрослом состоянии жаберного аппарата жаберные дуги редуцируются и сохраняются лишь их видоизмененные остатки. Подъязычная дуга сильно изменяется и частично редуцируется. Череп амфибий очень широкий, что отчасти связано с особенностями их дыхания. Нижняя челюсть, как и у костных рыб, состоит из нескольких к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звоночный стол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бесхвостых очень короткий и заканчивается длинной косточкой 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остил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овавшимся из рудиментов хвостовых позвонков. У хвостатых земноводных этот отдел позвоночного столба состоит из ряда позво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а слабо развиты (у хвостатых земноводных) или редуцированы, а их остатки слились с поперечными отростками позвонков (у остальных амфибий)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древних амфибий ребра имелись. Редукция их у современных форм объясняется необходимостью облегчить массу тела (сильно возросшую при переходе из водной среды в воздушну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елет передней коне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ит из плечевой кости, двух костей предплечья — лучевой и локтевой, костей запястья, пястных костей и фаланг пальцев. Скелет задней конечности состоит из бедра, двух костей голени — большой берцовой и малой берцовой, костей предплюсны, плюсневых костей и фаланг паль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ечевой по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са конечностей развиты значительно лучше, чем у ры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чевой пояс состоит из костных и хрящевых элементов: лопатки надлопаточного хряща, ключицы, прокоракоидного хряща и коракоида, или вороньей кости. Ключицы и коракоиды соединены с грудиной, в состав которой тоже входят костные и хрящевые элементы. Головка плеча сочленяется с плечевым поя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ний пояс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таз, состоит из трех костей: подвздошной, лобковой и седалищной. Образуемая этими костями большая вертлужная впадина служит для сочленения с головкой бедра. Таз соединен с одним позвонком — крестцовым, благодаря чему задние ноги в отличие от брюшных плавников рыб получили довольно прочную оп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еч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амфибии появились разные группы мышц: мышцы ног (например, бедренные, икроножная, малоберцовая, предплюсневые, сгибатели и разгибатели), мышцы, соединяющие ноги с поясами конечностей (например, грудная, дельтовидная, ягодичная и др.), мышцы, изменяющие объем ротовой полости (подчелюстная, подъязычная и др.), а также многие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им образом, у земноводных были заложены основы той мышечной системы, которая потом развивалась, усложнялась и подвергалась дальнейшей дифференциации у вышестоящих позвоночных — рептилий, птиц и млекопитающих. Однако у земноводных как низших наземных позвоночных сохранились следы метамерной мускулатуры, в частности довольно хорошо выраженные на брюшной стороне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ая полость очень широкая. У ряда видов (главным образом у хвостатых амфибии) имеется много мелких, однородных, примитивно устроенных зубов, которые сидят на челюстях, сошнике, нёбных и других костях и служат лишь для удержания добычи. У большинства видов (главным образом у бесхвостых амфибий) зубы частично или полностью редуцируются, зато у них сильно развивается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й у лягушек прикреплен к нижней челюсти передним концом и может для поимки добычи далеко выбрасываться задним концом вперед. Он очень липкий и хорошо приспособлен для выполнения указанной функции. У видов, постоянно живущих в воде, язык обычно редуцируется. Захват добычи у таких земноводных осуществляется челюст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ти у всех земноводных - ле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и органы имеют еще очень простое строение и представляют собой тонкостенные мешки, в стенках которых разветвляется довольно густая сеть кровеносных сосудов. Так как внутренняя стенка легких почти гладкая, то их поверхность относительно неве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хея почти неразвита, и легкие связаны непосредственно с гортанью. Поскольку грудной клетки у земноводных нет, дыхание обеспечивается работой мышц ротовой пол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дох происходит при открытых ноздрях (которые в отличие от ноздрей рыб сквозные, т. е. кроме наружных ноздрей имеются и внутренние ноздри — хоаны) и закрытом рте оттягивается дно обширной ротовой полости и в нее поступает воздух. Затем ноздри закрываются особыми клапанами, дно ротовой полости поднимается, и воздух нагнетается в легкие. Выдох происходит в результате сокращения брюшной мускул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кодерм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66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ительное количество кислорода земноводные получают через кожу и слизистые оболочки ротовой полости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 некоторых видов саламандр легких совсем нет, и весь газообмен совершается через к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дце намного крупнее и сложнее устроено, чем у рыб, и состоит из трех ка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вого предсер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го предсерд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го желуд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евое предсердие поступает по легочным венам кровь, насыщенная в легких кислородом и бедная углекислым газом. Такую кровь принято называ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ртериаль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отя ее приносят здесь в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авое предсердие поступает по венам кровь, отдавшая разным органам большую часть кислорода и насыщенная углекислым газом. Такую кровь принято называ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ноз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сокращения предсердий кровь из них попадает в единственный желудочек, но там артериальная и венозная порции ее полностью не смешиваются, так как этому препятствуют многочисленные выросты на внутренней стороне желуд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этому после сокращения предсердий в правой части желудочка будет находиться венозная кровь, в левой — артериальная, а в средней — смеша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правой части желудочка отходит артериальный конус (унаследованный амфибиями от кистеперых рыб), от которого берут начало четыре пары артерий (образовавшиеся из жаберных приносящих артерий рыб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сокращения желудочка первая порция крови, попадающая в артериальный конус, будет венозной, и она направляется в самые близкие к правой части желудочка и широкие легочно-кожные ар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орция крови — смешанная — направляется в а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тья порция крови — артериальная — идет в сонные ар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артерии амфибий несут разную кровь, что обеспечивает наиболее целесообразное распределение ее в организме в связи с переходом к легочному способу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, насыщенная в коже кислородом, идет по венам в правое предсердие и несколько увеличивает содержание кислорода в венозной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ки, как и у рыб, туловищные, но более компактной формы, расположенные в задней половине тела на спинной сторо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ча удаляется через мочеточники (вольфовы каналы), впадающие, как и у кистеперых рыб, в клоаку, и накапливается в мочевом пузыре, который периодически опорожняется через клоакальное отверст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фибии — раздельнополые животные. У самок половые железы представлены парными яичниками, а у самцов — парными семенниками. Оплодотворение в большинстве случаев происходит в в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бесхвостых амфибий этому предшествует сближение самца и самки: самец обхватывает сзади самку, надавливает передними конечностями на ее брюшную стенку и этим способствует выходу в воду икры, которую он сразу оплодотворяет. Таким образом, при наличии полового акта оплодотворение происходит вне организма сам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большинства хвостатых амфибий (например, у тритонов) самец выделяет семя в особом мешочке (сперматофоре), который самка тут же захватывает краями клоаки. В данном случае полового акта нет, но оплодотворение — внутреннее. Наконец, у безногих амфибий самец вводит семя в клоаку самки при помощи своей способной выпячиваться клоа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 Хрящевые рыбы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ас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иножаберные рыб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Elasmobranch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ас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ноголовые рыбы (Holoceph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3640" y="155736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тряд Акулы (Selach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тряд Скаты (Batoide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тряд Holocephalimor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 Химерообразные (Chimaerifor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84720" y="191628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95640" y="2781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4149360"/>
            <a:ext cx="1655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 ХРЯЩЕВЫЕ РЫБЫ (CHONDRICHTHY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ящевые рыбы возникли в верхнем силуре (440 млн. лет назад) от бесчелюстных, переходивших к более быстрому, длительному плаванию и более успешному захвату добычи вооруженным челюстями ртом. Они были первыми челюстноротыми позвоноч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кро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о покрыто мелкими костными чешуй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ит из пластинки и з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шуя защищает от механических пов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жа богата железами, выделения которых уменьшают трение, возникающее при пла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5:19:31Z</dcterms:created>
  <dc:creator>Анна</dc:creator>
  <dc:description/>
  <dc:language>en-US</dc:language>
  <cp:lastModifiedBy>Анна</cp:lastModifiedBy>
  <dcterms:modified xsi:type="dcterms:W3CDTF">2016-03-07T13:50:02Z</dcterms:modified>
  <cp:revision>50</cp:revision>
  <dc:subject/>
  <dc:title>Основные систематические группы позвоночных</dc:title>
</cp:coreProperties>
</file>