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42B-C07E-4A19-920D-A1615A45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8C6-C172-4E1B-8701-2F311790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708-5F7F-49E5-8397-E41BEB19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C8B-88FF-4107-B174-65087D26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A3F-62CB-4FA5-B18C-659CB261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07F-67E1-4187-A5FE-0A785C66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766-90B5-4AB9-B7CC-93F0C1E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46C-BA1F-4213-B85D-B2F7FBA1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E82-512A-4ABC-A69A-6293ADAE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CFF-3619-4C36-BA0A-EE2931D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7D2-F151-4107-A01C-4F66673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FFC-4656-47DF-80CA-43E557B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172C-E716-4D68-9C45-E0BF1ACF5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D5C-AECF-4AE0-A1FC-F823930C5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Хордовые. Происхождение и сис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EEB1-4B67-429D-A680-33B020A7A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 ксенотурбеллиды, 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Xenoturbell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2 морских червеобразных 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i?id=38011791-38-72"/>
          <p:cNvPicPr/>
          <p:nvPr/>
        </p:nvPicPr>
        <p:blipFill>
          <a:blip r:embed="rId1"/>
          <a:stretch/>
        </p:blipFill>
        <p:spPr>
          <a:xfrm>
            <a:off x="4716360" y="1773360"/>
            <a:ext cx="2127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2883-F897-4EEA-A77D-179F52359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 полухордовы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Hemichor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ие донные беспозвоночные из группы вторичнорот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Картинка 4 из 346"/>
          <p:cNvPicPr/>
          <p:nvPr/>
        </p:nvPicPr>
        <p:blipFill>
          <a:blip r:embed="rId1"/>
          <a:stretch/>
        </p:blipFill>
        <p:spPr>
          <a:xfrm>
            <a:off x="4932360" y="1341360"/>
            <a:ext cx="34290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7" descr="loadbinaryaspx_filename_555700fg0020-14244AE7E1546406F57.jpg"/>
          <p:cNvPicPr/>
          <p:nvPr/>
        </p:nvPicPr>
        <p:blipFill>
          <a:blip r:embed="rId1"/>
          <a:stretch/>
        </p:blipFill>
        <p:spPr>
          <a:xfrm>
            <a:off x="1835280" y="333360"/>
            <a:ext cx="4778280" cy="57927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F32-DD54-4B14-96CF-1ED3C66A9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3AE7-F7A8-4167-B6B5-2D51FEB99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Картинка 2 из 346"/>
          <p:cNvPicPr/>
          <p:nvPr/>
        </p:nvPicPr>
        <p:blipFill>
          <a:blip r:embed="rId1"/>
          <a:stretch/>
        </p:blipFill>
        <p:spPr>
          <a:xfrm>
            <a:off x="1187280" y="981000"/>
            <a:ext cx="67723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4" descr="worm.jpg"/>
          <p:cNvPicPr/>
          <p:nvPr/>
        </p:nvPicPr>
        <p:blipFill>
          <a:blip r:embed="rId1"/>
          <a:stretch/>
        </p:blipFill>
        <p:spPr>
          <a:xfrm>
            <a:off x="1332000" y="549360"/>
            <a:ext cx="4238640" cy="554364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191F-47AE-45CF-8A86-B4F43E1A0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ки иглокожих перешли к сидячему образу жизни и стали собирать взвешенные в воде пищевые частицы с помощью щупалец. Радиальная симметрия иглокожих - это наследие сидячего образа жизни, который среди современных форм сохраняют морские лилии, тогда как морские звезды, морские ежи, офиуры и голотурии способны медленно переползать с места на мест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лухордовые в качестве основного органа движения стали использовать предротовой отдел те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бот кишечнодышащих или головной щит крыложаберных. Обычно полухордовых считают близкими предками хордовых, о чем говорит и само название этой группы. В действительности эта группа не слишком близка к хордовым, в частности потому, что имеет два нервных тяжа, только один из которых может быть гомологизирован с нервной трубкой хордовых. У них имеется слепой вырост кишечника - стомохорд, который сформировался как опорная структура хобота и не имеет прямого отношения к хорде хордов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7AA-12AE-46F3-A3BE-2D0013F98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4" descr="5.gif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58323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45AD-46E9-4163-8595-A00FFD186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ки хордовых также первоначально собирали пищевые частицы с помощью околоротовых щупалец, которые до сих пор сохранились у ланцетников. Одной из особенностей эволюции хордовых явилось использование самого заднего, четвертого отдела тела как органа активного движения. Этот отдел имеется у всех вторичноротых. Иглокожие и крыложаберные используют его как прикрепительный стебелек. У кишечнодышащих этот отдел функционирует только у молодых особей: с его помощью они закапываются в толщу грунта. У погонофор этот отдел активно функционирует всю жизнь: он вооружен щетинками, торчит из заднего конца трубки и благодаря его движениям погонофоры заглубляют задний конец трубки в толщу грунта по мере своего роста. Хордовые - единственная группа вторичноротых, использующая этот отдел как орган активного плавания. Именно в связи с активной двигательной функцией этого органа в нем происходит полная сегментация мускулатуры и развивается хорда (у личинок оболочников хорда локализована именно в хвосте). Активное использование хвостового отдела как органа движения в какой-то мере предопределило примат подвижности в эволюции хордов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7D1-6484-44E0-BB9E-DC4C6C251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CDB-9ED7-49B5-9B2A-067059856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енности строения и развития хордовых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Хор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вой ске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озникающий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инной струны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пругий нечленистый тя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шнуровывается от спинной стенки зародышевой кишки – развивается из энтодер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яется только у низших хордовых (за исключением асцидии и сальп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большинства - редуцируется (позвоночни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да вытесняется позвонками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 сплошного нечленистого тяжа становится сегментирова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A38A-C2CA-46D2-B3CF-A36201B01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Ц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осевым скелетом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нтральная нервная система, - полая труб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ть нервной трубки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вро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чатое строение ЦНС - для всех хордо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ний отдел нервной трубки разрастается и образует головной мозг. Внутренняя полость - желудочки головного моз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брионально НС - из спинной части эктодер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558-C93D-4584-9AE3-634BBF273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схождение хордо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ичноро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группа многоклеточных животных из раздела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ilateri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ждение вторичноротых неясно. Возможно они произошли от радиальных (кишечнополостных) животных независимо от первичнорот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ругим гипотезам, предками вторичноротых были представители одного из примитивных типов первичноротых, объединяемых в группу низших чер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ED7-6448-40C5-925B-AD23F00BB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Жаберные щ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ний (глоточный) отдел пищеварительной трубки - два ряда отверстий – висцеральные (жаберные) щ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зших форм - жаб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остальных - эмбриональные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6826-0255-4D88-A7DC-0F2171129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атические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овые имеют вторичный рот. Он образуется эмбрионально путем прорыва стенки гаструлы на конце, противоположном гастропору. На месте же зарастающего гастропора формируется анальное отверс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ть тела у хордовых вторичная (цел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мерное расположение многих органов - выражено у зародышей и низших хордовых. У высших - усложнение строения - метамерия выражена сла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енна двусторонняя (билатеральная) симметрия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2105-418D-46A4-8734-7C5910EA0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ХОРДОВЫЕ (CHORDAT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ХОРДОВЫЕ (CHORDAT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I. БЕСЧЕРЕПНЫЕ (ACRANI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II. ЛИЧИНОЧНО-ХОРДОВЫЕ (UROCHORDATA), ИЛИ ОБОЛОЧНИКИ (TUNIC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ип III. ПОЗВОНОЧНЫЕ (VERTEBRATA), ИЛИ ЧЕРЕПНЫЕ (CRANIAT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3276720" y="213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419640" y="3284640"/>
            <a:ext cx="1152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3564000" y="4076640"/>
            <a:ext cx="107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CAD8-EE00-4921-B93F-1992DFD5C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ТИП ОБОЛ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ИП ОБОЛ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сцид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Ascidi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льп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Salp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ппендикуляр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Appendicularia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3276720" y="2276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63528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3635280" y="378936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7" descr="w_mTsC8ASOs.jpg"/>
          <p:cNvPicPr/>
          <p:nvPr/>
        </p:nvPicPr>
        <p:blipFill>
          <a:blip r:embed="rId1"/>
          <a:stretch/>
        </p:blipFill>
        <p:spPr>
          <a:xfrm>
            <a:off x="2411280" y="0"/>
            <a:ext cx="4822920" cy="65246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ECAE-63A6-4935-B463-A10EF2BE9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CA5-51FC-49FF-9A35-FC9914CD0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ТИП ОБОЛ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ие животные (около 1500 вид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зрослом состоянии у большинства отсутствуют хорда и нервная труб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основные признаки типа выражены в личиночном возра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прикрепленный образ жизни, обитая одиночно или колониально; есть и свободноплавающи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тела мешковидная или бочонкообра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ружи тело одето особой, у большинства видов толстой, оболочкой 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туни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ей студенистую или хрящеватую консистен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ы размножаться не только половым, но и бесполым путем – почкованием, гермафрод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3BA-9EF4-4A78-9F82-C11B22BFB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сцид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Ascidi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Картинка 1 из 733"/>
          <p:cNvPicPr/>
          <p:nvPr/>
        </p:nvPicPr>
        <p:blipFill>
          <a:blip r:embed="rId1"/>
          <a:stretch/>
        </p:blipFill>
        <p:spPr>
          <a:xfrm>
            <a:off x="900000" y="1413000"/>
            <a:ext cx="590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80CC-3148-4BEF-96A3-34A55D5CA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Картинка 3 из 733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894D-94D4-4076-96CF-FF62B5A70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артинка 9 из 733"/>
          <p:cNvPicPr/>
          <p:nvPr/>
        </p:nvPicPr>
        <p:blipFill>
          <a:blip r:embed="rId1"/>
          <a:stretch/>
        </p:blipFill>
        <p:spPr>
          <a:xfrm>
            <a:off x="155520" y="46080"/>
            <a:ext cx="11773080" cy="1091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EF13-3DB7-4C2A-B70D-9EB8F2127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сцид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Ascidi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дячие формы, одиночные и колониальные. Колониальные формы иногда - свободноплавающий образ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ая одиночная асцидия похожа на двугорлую банку. Основанием прикреплена к выступам д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части тела - ротовой сифон ведет в мешковидную гло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 сбоку - клоакальный сиф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пронизана большим числом жаберных щелей, или стигм, через них циркулирует 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й предок вторичноротых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 донный образ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зая на брюшной стороне с помощью ресничной полоски, подостланной вентральным нервным тяж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имел три пары целомических мешков и щупальцевый аппарат, с помощью которого собирал мелкие пищевые част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71C-7275-4AE7-B7DB-631632577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1F8-EC57-4D7F-9CCD-0C0CE3006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не глотки - отверстие, ведет в короткий пище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евод - в мешковидный желу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ая кишка открывается в атриальную полость, которая сообщается с наружной средой через отверстие - атриопор, располагающееся на клоакальном сиф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ание пассивное. есть эндостиль – железистая складка глотки - на нем осаждаются пищевые част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достиль начинается на дне глотки поднимается к ротовому отверстию, раздваивается, образуя окологлоточное кольцо, и переходит в спинную борозд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евые комочки перегоняются реснитчатыми клетками эндостиля вверх к окологлоточному кольцу, откуда они по спинному выросту спускаются к пищеводу. Есть желудок, короткая кишка открывается в атриальную полость вблизи клоакального сиф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161-55F2-4CB8-AAAF-8487580DA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еносная система незамкнутая, лакунар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вная система состоит из лишенного внутренней полости ганглия, расположенного между ротовым и клоакальным сифонами. Органов чувств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566-865A-4D43-B24A-AF23A6759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Картинка 21 из 733"/>
          <p:cNvPicPr/>
          <p:nvPr/>
        </p:nvPicPr>
        <p:blipFill>
          <a:blip r:embed="rId1"/>
          <a:stretch/>
        </p:blipFill>
        <p:spPr>
          <a:xfrm>
            <a:off x="1835280" y="1413000"/>
            <a:ext cx="46828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7970-9447-43B3-A327-BCC569C99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ротовой сифон; 2 - эндостиль; 3 - сердце; 4 - яичник и семенник; 5 - желудок; 6 - пищеварительная железа; 7 - туника с проникающими в нее кровеносными сосудами; 8 - задний проход; о - ! клоака; 10 - начало пищевода; 11 - спинной нерв; 12 – ганглий;13 - церебральная железа (гомолог задней доли гипофиза позвоноч - ных, выделяющая в кровь те же гормоны); 14 -ведущий к ней мерцательный канал; 15 - ротовые щупальца;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image460"/>
          <p:cNvPicPr/>
          <p:nvPr/>
        </p:nvPicPr>
        <p:blipFill>
          <a:blip r:embed="rId1"/>
          <a:stretch/>
        </p:blipFill>
        <p:spPr>
          <a:xfrm>
            <a:off x="250920" y="620640"/>
            <a:ext cx="39542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A671-EEE4-48FD-A42F-D6D6B32B9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есполом размножении на брюшной стороне тела материнской особи обр. выпячивание - почкородный стол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ка обособляется - в сидячую форму: у колониальных остается на столоне и размно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е размножение : гермафрод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плодотворенного яйца - свободноплавающая личин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голова" содержит все органы , в хвосте кроме мускулатуры и плавниковой складки закладываются хорда и нервная труб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908-9DBF-4D51-904A-C61E051C2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морфоз лич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репляется двумя выростами головы к субстрату и подверг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рессивному метаморфоз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а исчезает. Уменьшаются в размерах, а затем исчезают нервная трубка, светочувствительный глазок и мозговой пузыр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разрастается, число жаберных отверстий увеличивается. Ротовое и анальное отверстия перемещаются наверх. Тело принимает мешковидный об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верхности тела быстро формируется ту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DF73-51F9-454E-B3B8-4941DBD04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тип БЕСЧЕРЕПНЫЕ (ACRANIA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лупрозрачное, белёс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жато с боков и удлинено. 5—8 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ижней стороне переднего конца - предротовая воронка (или полость) окружена ротовыми щупальцами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оль спины - плавниковая складка — спинной плавник. переходит в хвостовой, копьевидной 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ереднего конца тела до подхвостового плавника по бокам идут метаплевральные скл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схождения метаплевральных складок и хвостового плавника располагается атриопор, (жаберная пора) — выводное отверстие атриальной, или околожаберной, 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EA9-F3F9-4139-BDF4-089520A28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ро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а  однослойный 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тел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(эпидермис),  на подстилающей тонк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альной мембра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ерху покрыт кутику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7CD1-47D0-4456-9BA1-2CC223159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орно-двиг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вым скелетом ланцетников является хорда, или нотохор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ый, вертикально исчерченный стержень, тянется вдоль спинной стороны те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скулатура метамерна - сегментное строение, по обе стороны хо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омеры (или миотомы) — мышечные сегменты в количестве 50—80 штук, разделены миосептами — студенистыми сдт перегород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конусовидную форму, вершина вкладывается в выемку следующего сегмента - связь между миомерами и осевым скел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ланцетников характерна асимметрия мускулатуры тип сегментации вендской фауны, симметрия скользящего от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головного конца тела до атриопора по брюху ланцетника проходит особый слой несегментированных поперечных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306C-2B1A-47B8-BD0C-439E9A8C2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ются  червеобразно, за счёт сокращения миомеров, последовательно изгибающих тело (ундулирующее движе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льнейшем - обособление самого заднего отдела тела, - зарывались в верхние слои грун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эволюции вторичноротых этому отделу принадлежит очень важно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6F5-A760-4238-A449-59E4264EC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1225-503D-4088-A5F6-36DE9806F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6 из 58"/>
          <p:cNvPicPr/>
          <p:nvPr/>
        </p:nvPicPr>
        <p:blipFill>
          <a:blip r:embed="rId1"/>
          <a:stretch/>
        </p:blipFill>
        <p:spPr>
          <a:xfrm>
            <a:off x="395280" y="105264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491A-B4B1-4077-A94B-12DD6602B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ые щупальца и предротовая воронка      ротовое отверстие, окружено мускулистой кольцевой перепонкой — пару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до трети длины тела, пронизана жаберными щелями - свыше 100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иальная полость окружает глотку по бо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имеет две борозды, выстланные ресничным и железистым эпител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переходит в короткую, без изгибов кишку, которая заканчивается анальным отверст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ой пальцевидный печёночный вырост, - пищеварительные ферменты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241128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2411280" y="24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06C3-6E23-437D-8E05-EFD92A51C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кнутая, представлена потоками артериальной и венозной крови. Сердца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териа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д глотк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рюшная ао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обе стороны - пар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аберные арте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спинной стороне глотки окисленная кровь - в парные наджаберные сосуды, и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 спинной аор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нная ао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д хордой, идет вдоль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ноз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 переднего конца тела - пар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рем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дние кардин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ены, несущие кровь назад. От заднего конца тела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ние кардинальные в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овь течет вперед. Передние и задние кардинальные вены сливаются - два (левый и правый)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ювъеровых прот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 кювьеровых протоков кровь - 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нозный син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куда берет начало брюшная а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 крови - пульсация брюшной аорты и нижних частей жаберных сосудов ("жаберные сердца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ь бесцветна: она не содержит ни форменных элементов, ни пиг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776-02FB-4669-A047-2CE02FE22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5 из 5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1C46-ACEC-43D9-9229-B713CC291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ние - через кожу и жаберные щ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ртинка 1 из 58"/>
          <p:cNvPicPr/>
          <p:nvPr/>
        </p:nvPicPr>
        <p:blipFill>
          <a:blip r:embed="rId1"/>
          <a:stretch/>
        </p:blipFill>
        <p:spPr>
          <a:xfrm>
            <a:off x="3780000" y="476280"/>
            <a:ext cx="5047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279-8EB0-49E8-AC14-E0F4DE4B7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100 пар нефридиев - метамерно над полостью гло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ростомы замкнуты группой клеток с мерцательным пламенем - постоянно работающим жгут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енкам трубки нефридия прилегают капиллярные клубочки, продукты обмена -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целома продукты распада - в соленоцит, далее  в просвет нефридиальной трубки, - при помощи биения жгутиков соленоцитов и клеток мерцательного эпителия, выстилающих труб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тверстия нефридия - в околожаберную полость и выв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FA73-33D7-4910-BB98-CA6613793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ьноп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ады самцов и самок похожи распределены посегментно на стенке тела, примыкающей к атриальной пол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ых желёз (гонад) обычно 25—26 п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ых протоков нет, и  половые клетки попадают в атриальную полость через разрывы стенок гон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4.gif"/>
          <p:cNvPicPr/>
          <p:nvPr/>
        </p:nvPicPr>
        <p:blipFill>
          <a:blip r:embed="rId1"/>
          <a:stretch/>
        </p:blipFill>
        <p:spPr>
          <a:xfrm>
            <a:off x="1547640" y="333360"/>
            <a:ext cx="4743720" cy="579276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98B-1E6F-4E19-95C1-36CADF047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 целомы первой пары, 2 - целомы второй пары, 3 - целомы третьей пары, 4 - кровеносная система, 5 - нервная система. Стрелки показывают направление тока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1310-E33A-4DEB-A9A4-DBCADF652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12C-7D99-4C9E-9E66-5F7402473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ичноро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 иглокожие, 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 щетинкочелюстные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haetogna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 ксенотурбеллиды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enoturbel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 полухордовые, 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emi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 хордовые, 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429-AB70-4C5F-8F26-A37F76CCF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 иглокожие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лючительно морские донные животные, большей частью свободноживущие, реже сидячие, встречающиеся на любых глубинах Мирового оке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rown of Thorns-jonhanson.jpg"/>
          <p:cNvPicPr/>
          <p:nvPr/>
        </p:nvPicPr>
        <p:blipFill>
          <a:blip r:embed="rId1"/>
          <a:stretch/>
        </p:blipFill>
        <p:spPr>
          <a:xfrm>
            <a:off x="4572000" y="1844640"/>
            <a:ext cx="41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2D44-96D8-4E97-98B3-31C032AE7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 щетинкочелюстные 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Chaetognat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тинкочелюстные — свободноплавающие морские животные, встречающиеся главным образом в пелагиали. Встречаются также и бентосные формы. Передвигаются благодаря сокращению мускулатуры, попеременно изгибая тело вверх и вниз; боковые плавники при этом остаются неподвижны и служат для равновес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Файл:MEB back.png"/>
          <p:cNvPicPr/>
          <p:nvPr/>
        </p:nvPicPr>
        <p:blipFill>
          <a:blip r:embed="rId1"/>
          <a:stretch/>
        </p:blipFill>
        <p:spPr>
          <a:xfrm>
            <a:off x="4643280" y="907920"/>
            <a:ext cx="4057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1:39:18Z</dcterms:created>
  <dc:creator>Нейдорф</dc:creator>
  <dc:description/>
  <dc:language>en-US</dc:language>
  <cp:lastModifiedBy>Нейдорф</cp:lastModifiedBy>
  <dcterms:modified xsi:type="dcterms:W3CDTF">2016-02-10T08:04:32Z</dcterms:modified>
  <cp:revision>69</cp:revision>
  <dc:subject/>
  <dc:title>Тип Хордовые. Происхождение и систематика</dc:title>
</cp:coreProperties>
</file>